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5897C-D6AF-492A-8D32-DE7FE7586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E7FCF-0AE0-4880-9863-0CFADE6A6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E0037-A85F-45DE-825A-31265B8D6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47B60-4351-4F01-869A-95331B967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E99B3-D1CC-4156-83A6-6277948DC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DB240-BAC1-4C7D-B058-78500221C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A29B5-9D65-43BA-907F-6458552CD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79223-1924-4BBE-BCA8-99C79DC9D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F4CC7-A2BD-4B79-B7D5-6F1F78A51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8F54A-90BB-4A4B-A714-3B2BB681A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CBC16-06AD-44E2-82A5-D5696C9AF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35ABA-DF54-4197-B0F6-C436F195D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6E72D-16CC-4D89-A821-6C67877FE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A72AA-6B12-4617-A63C-46291DAC7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D7AE9-26BB-4D1E-8BF3-47BA5DBD5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E6BBF-906C-4FC6-B164-7BDF63DD6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A552E-CF59-424B-9B2B-A8EA54EB9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327CDE-0A17-4D22-97AC-6D761C5F3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8F84AF-D456-45ED-AA76-12335EE2E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72F170-60C7-4C02-A1C3-A2883E886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E639BC-DC45-446F-9B4B-46CB6BFCF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F72400-9491-48DE-810F-337B43FD6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59FE1-B40B-4A39-BAF9-F696A145E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EA350E-297B-4C2E-AC26-00D6B5DE5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67D52D-847E-4FDF-86C8-EC2CB39A2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093386-B2F3-4668-A9E5-86C7278C8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5F3675-C07D-47FF-A6AA-A14AD260B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2D1326-0C30-4280-95F2-A15396199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6F61FF-0461-4A69-B94A-C6703803A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3F9210-0D00-4E92-8A29-D7286849E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AD8888-58AD-42D1-BE5B-BF43F1C26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A237F3-D4C0-41FC-8F28-14008F0FF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49B5CF-5954-40A2-85B8-B02415D99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1EAEE-07DC-4F47-8485-751ACD459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576F8A-3A12-451F-8ADF-C5CE040E5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A1F014-B89A-4BF0-8783-31D828EAC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956BF5-7F7A-406F-8399-89244CA73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CA9555-5256-4350-9C50-9D3BC8256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CEED07-214A-4D99-86BE-EDCE24A05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DE45B2-FEB0-44F6-88A1-62D0A9B97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258FE8-CA41-4A1F-B19A-E66E81901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B2135A-6FB6-4CCD-8904-D3505ACCC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901AF1-4161-4CAE-8B46-6B00BD744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C8E2D-3EA1-4984-86B1-CBBC77C35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D5A37-4381-46E3-BE85-0E2C417B2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FBE6E-D995-4F37-81AB-761DBAC04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5CF96-1F90-47BF-8BA5-B6B3376B0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07372-A59E-40E3-8F1E-3308B535D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4C398-9CC4-437A-A3E9-A3FC8D0A8714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E5BBF-85DF-45EE-846C-3319EB146A8A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BD4BD-C068-46B6-BFE0-A24FBD8E8E99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5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065F6-41C2-40D3-9DD5-B74EF5134F24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Заголовок 1" descr=""/>
          <p:cNvPicPr/>
          <p:nvPr/>
        </p:nvPicPr>
        <p:blipFill>
          <a:blip r:embed="rId1"/>
          <a:stretch/>
        </p:blipFill>
        <p:spPr>
          <a:xfrm>
            <a:off x="530280" y="1341360"/>
            <a:ext cx="7864560" cy="194472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Constantia"/>
              </a:rPr>
              <a:t>Проверочная работа по ИЗО в 6 классе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428760" y="9284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0000"/>
                </a:solidFill>
                <a:uFillTx/>
                <a:latin typeface="Constantia"/>
              </a:rPr>
              <a:t>9. В картине В.Васнецова «Богатыри» композиция: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Constantia"/>
              </a:rPr>
              <a:t>а) асимметричная        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Constantia"/>
              </a:rPr>
              <a:t>б) симметричная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914400" y="78588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0000"/>
                </a:solidFill>
                <a:uFillTx/>
                <a:latin typeface="Constantia"/>
              </a:rPr>
              <a:t>10. </a:t>
            </a:r>
            <a:r>
              <a:rPr b="1" i="1" lang="ru-RU" sz="3600" spc="-1" strike="noStrike" u="sng">
                <a:solidFill>
                  <a:srgbClr val="ff0000"/>
                </a:solidFill>
                <a:uFillTx/>
                <a:latin typeface="Constantia"/>
              </a:rPr>
              <a:t>Как называется жанр изобразительного искусства, в котором изображают природу?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 algn="ctr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onstantia"/>
              </a:rPr>
              <a:t>Живопись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 algn="ctr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onstantia"/>
              </a:rPr>
              <a:t>Анималистический жанр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 algn="ctr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onstantia"/>
              </a:rPr>
              <a:t>Натюрморт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 algn="ctr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onstantia"/>
              </a:rPr>
              <a:t>Пейзаж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 algn="ctr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onstantia"/>
              </a:rPr>
              <a:t>Портрет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 txBox="1"/>
          <p:nvPr/>
        </p:nvSpPr>
        <p:spPr>
          <a:xfrm>
            <a:off x="457200" y="571680"/>
            <a:ext cx="8229600" cy="59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0000"/>
                </a:solidFill>
                <a:uFillTx/>
                <a:latin typeface="Constantia"/>
              </a:rPr>
              <a:t>11. </a:t>
            </a:r>
            <a:r>
              <a:rPr b="1" i="1" lang="ru-RU" sz="3600" spc="-1" strike="noStrike" u="sng">
                <a:solidFill>
                  <a:srgbClr val="ff0000"/>
                </a:solidFill>
                <a:uFillTx/>
                <a:latin typeface="Constantia"/>
              </a:rPr>
              <a:t>Материалы, используемые в графике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901"/>
              </a:spcBef>
              <a:buClr>
                <a:srgbClr val="ff0000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onstantia"/>
              </a:rPr>
              <a:t>Акварель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901"/>
              </a:spcBef>
              <a:buClr>
                <a:srgbClr val="ff0000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onstantia"/>
              </a:rPr>
              <a:t>Глина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901"/>
              </a:spcBef>
              <a:buClr>
                <a:srgbClr val="ff0000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onstantia"/>
              </a:rPr>
              <a:t>Пластилин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901"/>
              </a:spcBef>
              <a:buClr>
                <a:srgbClr val="ff0000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onstantia"/>
              </a:rPr>
              <a:t>Карандаш,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901"/>
              </a:spcBef>
              <a:buClr>
                <a:srgbClr val="ff0000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1" lang="ru-RU" sz="3600" spc="-1" strike="noStrike">
                <a:solidFill>
                  <a:srgbClr val="ff0000"/>
                </a:solidFill>
                <a:latin typeface="Constantia"/>
              </a:rPr>
              <a:t>Уголь,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901"/>
              </a:spcBef>
              <a:buClr>
                <a:srgbClr val="ff0000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1" lang="ru-RU" sz="3600" spc="-1" strike="noStrike">
                <a:solidFill>
                  <a:srgbClr val="ff0000"/>
                </a:solidFill>
                <a:latin typeface="Constantia"/>
              </a:rPr>
              <a:t>Фломастеры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901"/>
              </a:spcBef>
              <a:buClr>
                <a:srgbClr val="ff0000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onstantia"/>
              </a:rPr>
              <a:t>Гуашь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785520" y="571680"/>
            <a:ext cx="7900920" cy="57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90000"/>
              </a:lnSpc>
              <a:spcBef>
                <a:spcPts val="8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 u="sng">
                <a:solidFill>
                  <a:srgbClr val="ff0000"/>
                </a:solidFill>
                <a:uFillTx/>
                <a:latin typeface="Constantia"/>
              </a:rPr>
              <a:t>12. </a:t>
            </a:r>
            <a:r>
              <a:rPr b="1" i="1" lang="ru-RU" sz="3300" spc="-1" strike="noStrike" u="sng">
                <a:solidFill>
                  <a:srgbClr val="ff0000"/>
                </a:solidFill>
                <a:uFillTx/>
                <a:latin typeface="Constantia"/>
              </a:rPr>
              <a:t>Как называется жанр изобразительного искусства, в котором изображают неодушевлённые предметы,организованные в  группу?</a:t>
            </a:r>
            <a:endParaRPr b="0" lang="en-US" sz="33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90000"/>
              </a:lnSpc>
              <a:spcBef>
                <a:spcPts val="825"/>
              </a:spcBef>
              <a:buClr>
                <a:srgbClr val="ff0000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ff0000"/>
                </a:solidFill>
                <a:latin typeface="Constantia"/>
              </a:rPr>
              <a:t>Автопортрет</a:t>
            </a:r>
            <a:endParaRPr b="0" lang="en-US" sz="33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90000"/>
              </a:lnSpc>
              <a:spcBef>
                <a:spcPts val="825"/>
              </a:spcBef>
              <a:buClr>
                <a:srgbClr val="ff0000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ff0000"/>
                </a:solidFill>
                <a:latin typeface="Constantia"/>
              </a:rPr>
              <a:t>Пейзаж</a:t>
            </a:r>
            <a:endParaRPr b="0" lang="en-US" sz="33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90000"/>
              </a:lnSpc>
              <a:spcBef>
                <a:spcPts val="825"/>
              </a:spcBef>
              <a:buClr>
                <a:srgbClr val="ff0000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ff0000"/>
                </a:solidFill>
                <a:latin typeface="Constantia"/>
              </a:rPr>
              <a:t>Живопись</a:t>
            </a:r>
            <a:endParaRPr b="0" lang="en-US" sz="33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90000"/>
              </a:lnSpc>
              <a:spcBef>
                <a:spcPts val="825"/>
              </a:spcBef>
              <a:buClr>
                <a:srgbClr val="ff0000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ff0000"/>
                </a:solidFill>
                <a:latin typeface="Constantia"/>
              </a:rPr>
              <a:t>Портрет</a:t>
            </a:r>
            <a:endParaRPr b="0" lang="en-US" sz="33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90000"/>
              </a:lnSpc>
              <a:spcBef>
                <a:spcPts val="825"/>
              </a:spcBef>
              <a:buClr>
                <a:srgbClr val="ff0000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ff0000"/>
                </a:solidFill>
                <a:latin typeface="Constantia"/>
              </a:rPr>
              <a:t>Натюрморт</a:t>
            </a:r>
            <a:endParaRPr b="0" lang="en-US" sz="33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8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Rectangle 2" descr=""/>
          <p:cNvPicPr/>
          <p:nvPr/>
        </p:nvPicPr>
        <p:blipFill>
          <a:blip r:embed="rId1"/>
          <a:stretch/>
        </p:blipFill>
        <p:spPr>
          <a:xfrm>
            <a:off x="396720" y="476280"/>
            <a:ext cx="8240760" cy="18828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0000"/>
                </a:solidFill>
                <a:uFillTx/>
                <a:latin typeface="Constantia"/>
              </a:rPr>
              <a:t>1. Назовите основные цвета: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Constantia"/>
              </a:rPr>
              <a:t>       </a:t>
            </a:r>
            <a:r>
              <a:rPr b="1" i="1" lang="ru-RU" sz="3600" spc="-1" strike="noStrike">
                <a:solidFill>
                  <a:srgbClr val="ff0000"/>
                </a:solidFill>
                <a:latin typeface="Constantia"/>
              </a:rPr>
              <a:t>а) желтый, зеленый, красный     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Constantia"/>
              </a:rPr>
              <a:t>б) красный, синий, зеленый       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1" i="1" lang="ru-RU" sz="3600" spc="-1" strike="noStrike">
                <a:solidFill>
                  <a:srgbClr val="ff0000"/>
                </a:solidFill>
                <a:latin typeface="Constantia"/>
              </a:rPr>
              <a:t>в) желтый, красный, синий</a:t>
            </a:r>
            <a:r>
              <a:rPr b="1" lang="ru-RU" sz="3600" spc="-1" strike="noStrike">
                <a:solidFill>
                  <a:srgbClr val="ff0000"/>
                </a:solidFill>
                <a:latin typeface="Constanti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1371600" y="1071720"/>
            <a:ext cx="64008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0000"/>
                </a:solidFill>
                <a:uFillTx/>
                <a:latin typeface="Constantia"/>
              </a:rPr>
              <a:t>2. Какие цвета относятся к теплым: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1" i="1" lang="ru-RU" sz="3600" spc="-1" strike="noStrike">
                <a:solidFill>
                  <a:srgbClr val="ff0000"/>
                </a:solidFill>
                <a:latin typeface="Constantia"/>
              </a:rPr>
              <a:t>а) белый, оранжевый    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Constantia"/>
              </a:rPr>
              <a:t>б) желтый, красный  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Constantia"/>
              </a:rPr>
              <a:t>    </a:t>
            </a:r>
            <a:r>
              <a:rPr b="1" i="1" lang="ru-RU" sz="3600" spc="-1" strike="noStrike">
                <a:solidFill>
                  <a:srgbClr val="ff0000"/>
                </a:solidFill>
                <a:latin typeface="Constantia"/>
              </a:rPr>
              <a:t>в) синий, фиолетовый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1428480" y="1142640"/>
            <a:ext cx="74293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0000"/>
                </a:solidFill>
                <a:uFillTx/>
                <a:latin typeface="Constantia"/>
              </a:rPr>
              <a:t>3.Цвета, которые нельзя получить смешиванием, называются: 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onstantia"/>
              </a:rPr>
              <a:t>а) глухими 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onstantia"/>
              </a:rPr>
              <a:t>      </a:t>
            </a:r>
            <a:r>
              <a:rPr b="1" lang="ru-RU" sz="3600" spc="-1" strike="noStrike">
                <a:solidFill>
                  <a:srgbClr val="ff0000"/>
                </a:solidFill>
                <a:latin typeface="Constantia"/>
              </a:rPr>
              <a:t>б) основными 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onstantia"/>
              </a:rPr>
              <a:t>  </a:t>
            </a:r>
            <a:r>
              <a:rPr b="1" lang="ru-RU" sz="3600" spc="-1" strike="noStrike">
                <a:solidFill>
                  <a:srgbClr val="ff0000"/>
                </a:solidFill>
                <a:latin typeface="Constantia"/>
              </a:rPr>
              <a:t>в) звонкими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1356840" y="1285560"/>
            <a:ext cx="6959880" cy="430380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0000"/>
                </a:solidFill>
                <a:uFillTx/>
                <a:latin typeface="Constantia"/>
              </a:rPr>
              <a:t>4. Какие цвета относятся к холодным: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Constantia"/>
              </a:rPr>
              <a:t>а) синий, зеленый      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1" i="1" lang="ru-RU" sz="3600" spc="-1" strike="noStrike">
                <a:solidFill>
                  <a:srgbClr val="ff0000"/>
                </a:solidFill>
                <a:latin typeface="Constantia"/>
              </a:rPr>
              <a:t>б) голубой, черный     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Constantia"/>
              </a:rPr>
              <a:t>    </a:t>
            </a:r>
            <a:r>
              <a:rPr b="1" i="1" lang="ru-RU" sz="3600" spc="-1" strike="noStrike">
                <a:solidFill>
                  <a:srgbClr val="ff0000"/>
                </a:solidFill>
                <a:latin typeface="Constantia"/>
              </a:rPr>
              <a:t>в) фиолетовый, коричневый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1213920" y="785520"/>
            <a:ext cx="7929720" cy="553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0000"/>
                </a:solidFill>
                <a:uFillTx/>
                <a:latin typeface="Constantia"/>
              </a:rPr>
              <a:t>5.Что может быть одновременно мягким и твердым: 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onstantia"/>
              </a:rPr>
              <a:t>а) краски 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onstantia"/>
              </a:rPr>
              <a:t>б) карандаш 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onstantia"/>
              </a:rPr>
              <a:t>в) ластик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1071360" y="642960"/>
            <a:ext cx="771516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0000"/>
                </a:solidFill>
                <a:uFillTx/>
                <a:latin typeface="Constantia"/>
              </a:rPr>
              <a:t>6. В каком колорите написана картина художника И.К.Айвазовского «Чесменский бой»: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ff0000"/>
                </a:solidFill>
                <a:uFillTx/>
                <a:latin typeface="Constantia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Constantia"/>
              </a:rPr>
              <a:t>                                        </a:t>
            </a:r>
            <a:r>
              <a:rPr b="1" i="1" lang="ru-RU" sz="3600" spc="-1" strike="noStrike">
                <a:solidFill>
                  <a:srgbClr val="ff0000"/>
                </a:solidFill>
                <a:latin typeface="Constantia"/>
              </a:rPr>
              <a:t>а) холодном      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Constantia"/>
              </a:rPr>
              <a:t>                                   </a:t>
            </a:r>
            <a:r>
              <a:rPr b="1" i="1" lang="ru-RU" sz="3600" spc="-1" strike="noStrike">
                <a:solidFill>
                  <a:srgbClr val="ff0000"/>
                </a:solidFill>
                <a:latin typeface="Constantia"/>
              </a:rPr>
              <a:t>б) теплом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3" name="Picture 4" descr="4"/>
          <p:cNvPicPr/>
          <p:nvPr/>
        </p:nvPicPr>
        <p:blipFill>
          <a:blip r:embed="rId1"/>
          <a:stretch/>
        </p:blipFill>
        <p:spPr>
          <a:xfrm>
            <a:off x="1428840" y="3214800"/>
            <a:ext cx="3071880" cy="33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1071720" y="857160"/>
            <a:ext cx="764352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0000"/>
                </a:solidFill>
                <a:uFillTx/>
                <a:latin typeface="Constantia"/>
              </a:rPr>
              <a:t>7.Натюрморт – это изображение: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Constantia"/>
              </a:rPr>
              <a:t>                          </a:t>
            </a:r>
            <a:r>
              <a:rPr b="1" i="1" lang="ru-RU" sz="3600" spc="-1" strike="noStrike">
                <a:solidFill>
                  <a:srgbClr val="ff0000"/>
                </a:solidFill>
                <a:latin typeface="Constantia"/>
              </a:rPr>
              <a:t>а) мёртвой натуры         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Constantia"/>
              </a:rPr>
              <a:t>                      </a:t>
            </a:r>
            <a:r>
              <a:rPr b="1" i="1" lang="ru-RU" sz="3600" spc="-1" strike="noStrike">
                <a:solidFill>
                  <a:srgbClr val="ff0000"/>
                </a:solidFill>
                <a:latin typeface="Constantia"/>
              </a:rPr>
              <a:t>б) живой натуры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5" name="Picture 4" descr="Брак Жорж"/>
          <p:cNvPicPr/>
          <p:nvPr/>
        </p:nvPicPr>
        <p:blipFill>
          <a:blip r:embed="rId1"/>
          <a:stretch/>
        </p:blipFill>
        <p:spPr>
          <a:xfrm>
            <a:off x="826920" y="2492280"/>
            <a:ext cx="296712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571680" y="1071720"/>
            <a:ext cx="8229600" cy="43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0000"/>
                </a:solidFill>
                <a:uFillTx/>
                <a:latin typeface="Constantia"/>
              </a:rPr>
              <a:t>8. В анималистическом жанре изображают: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Constantia"/>
              </a:rPr>
              <a:t>                </a:t>
            </a:r>
            <a:r>
              <a:rPr b="1" i="1" lang="ru-RU" sz="3600" spc="-1" strike="noStrike">
                <a:solidFill>
                  <a:srgbClr val="ff0000"/>
                </a:solidFill>
                <a:latin typeface="Constantia"/>
              </a:rPr>
              <a:t>а) боевые сражения     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Constantia"/>
              </a:rPr>
              <a:t>    </a:t>
            </a:r>
            <a:r>
              <a:rPr b="1" i="1" lang="ru-RU" sz="3600" spc="-1" strike="noStrike">
                <a:solidFill>
                  <a:srgbClr val="ff0000"/>
                </a:solidFill>
                <a:latin typeface="Constantia"/>
              </a:rPr>
              <a:t>б) животных      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Constantia"/>
              </a:rPr>
              <a:t>в) природу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7T15:19:14Z</dcterms:created>
  <dc:creator>Люба</dc:creator>
  <dc:description/>
  <dc:language>en-US</dc:language>
  <cp:lastModifiedBy>Пользователь Windows</cp:lastModifiedBy>
  <dcterms:modified xsi:type="dcterms:W3CDTF">2014-03-20T15:18:50Z</dcterms:modified>
  <cp:revision>10</cp:revision>
  <dc:subject/>
  <dc:title>Тесты</dc:title>
</cp:coreProperties>
</file>